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975F7-D428-44F3-A736-214F0736E7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EDA40-BBA0-4092-9156-D2BC8D4D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79A9C-2EF0-4A00-B829-AE25DB1C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BC14E-606F-4360-A0F4-35E3AD29E1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9E70C-3F32-4603-A574-F005D8BC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E8698-8659-4C68-BC48-72C3C36E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EFC6B-CA9D-45C4-8807-7F0BFA9D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F1042-3D3A-4D4C-B402-37E138011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59160-64EB-48FA-A8EE-329CE976D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EDA59-6B04-49B7-9E7C-D807941E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B10F1-E5FE-4F73-AE87-3044CBAF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6D2D7-F4ED-48B5-93EF-4B79B885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DABE-D7B8-47C1-9604-09891F67E1C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520"/>
              <a:ext cx="9115560" cy="1806120"/>
              <a:chOff x="28440" y="5051520"/>
              <a:chExt cx="9115560" cy="180612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520"/>
                <a:ext cx="9115560" cy="18061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52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276640"/>
            <a:ext cx="756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五章  常见疾病和损伤</a:t>
            </a:r>
            <a:r>
              <a:rPr b="0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十四节   冠心病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012000" y="5445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郭非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35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期康复的</a:t>
            </a:r>
            <a:r>
              <a:rPr b="1" lang="zh-CN" sz="2400" spc="-1" strike="noStrike">
                <a:solidFill>
                  <a:srgbClr val="fe6ade"/>
                </a:solidFill>
                <a:latin typeface="Verdana"/>
                <a:ea typeface="宋体"/>
              </a:rPr>
              <a:t>目标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防止废用，避免长期卧床产生的并发症如体力下降、直立性低血压、关节挛缩僵硬、血栓性静脉炎等；改善心理状态，树立信心，改善体力，达到生活自理，缩短住院时间，早日恢复工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6" descr="F:\baidu download\01300000285965122657163522513.jpg"/>
          <p:cNvPicPr/>
          <p:nvPr/>
        </p:nvPicPr>
        <p:blipFill>
          <a:blip r:embed="rId1"/>
          <a:stretch/>
        </p:blipFill>
        <p:spPr>
          <a:xfrm>
            <a:off x="3203640" y="3429000"/>
            <a:ext cx="3120840" cy="31212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所有康复活动必须有医务人员在场，备有心脏急救设备。每项活动前及活动后必须进行血压、脉搏和心电监测，观察患者的症状和体征。患者上下楼梯和步行时要有医务人员陪伴。早期的活动从低负荷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fe6a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始，逐渐增加运动，以等张低强度为原则，避免等长性活动，一般病情稳定没有并发症者，在病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作低水平的运动试验，活动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32" name="Picture 4" descr="u=3299644562,880909932&amp;fm=23&amp;gp=0"/>
          <p:cNvPicPr/>
          <p:nvPr/>
        </p:nvPicPr>
        <p:blipFill>
          <a:blip r:embed="rId1"/>
          <a:stretch/>
        </p:blipFill>
        <p:spPr>
          <a:xfrm>
            <a:off x="1258920" y="1628640"/>
            <a:ext cx="6192720" cy="42483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此期是恢复期，在门诊或家庭完成康复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使患者适应出院后的生活，恢复一般日常生活活动能力，恢复心脏功能和体力，保持信心，安定情绪，提高生活质量和适应社会的能力。在病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可以作症状限制性运动试验，心脏功能可以达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水平，患者可以恢复中等体力劳动的工作。低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患者不能恢复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u=1711370528,4284929209&amp;fm=15&amp;gp=0"/>
          <p:cNvPicPr/>
          <p:nvPr/>
        </p:nvPicPr>
        <p:blipFill>
          <a:blip r:embed="rId1"/>
          <a:stretch/>
        </p:blipFill>
        <p:spPr>
          <a:xfrm>
            <a:off x="468360" y="1268280"/>
            <a:ext cx="8280360" cy="50403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此期康复可以在康复中心或社区内完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增加心血管功能，巩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的康复效果，保持健康的生活方式，恢复病前的工作。运动方式以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有氧训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基本方法。改善肌力和耐力，可以进行散步、骑自行车、游泳、登山、医疗体操等。运动强度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%HRma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运动持续时间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秒，运动前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秒的热身运动，运动结束做放松运动。运动频率采取每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559640" cy="4464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宣传冠心病的危险因素、发病机制、发展过程，急性发病的预防措施，在冠心病监护室的治疗程序、心电监护、药物治疗、肢体康复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让患者了解每个时期康复的目标、康复的内容、注意事项等，制订出院后的保健计划、运动处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控制冠心病的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危险因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积极治疗高血脂、高血压、糖尿病，养成良好的生活习惯，戒烟、戒酒，饮食体重控制，保持乐观心态，坚持适当的有氧健身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Picture 2" descr="F:\baidu download\6993609_144343292389_2.jpg"/>
          <p:cNvPicPr/>
          <p:nvPr/>
        </p:nvPicPr>
        <p:blipFill>
          <a:blip r:embed="rId1"/>
          <a:stretch/>
        </p:blipFill>
        <p:spPr>
          <a:xfrm>
            <a:off x="1835280" y="260280"/>
            <a:ext cx="5761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48" name="Picture 4" descr="u=465317815,1843221408&amp;fm=23&amp;gp=0"/>
          <p:cNvPicPr/>
          <p:nvPr/>
        </p:nvPicPr>
        <p:blipFill>
          <a:blip r:embed="rId1"/>
          <a:stretch/>
        </p:blipFill>
        <p:spPr>
          <a:xfrm>
            <a:off x="900000" y="141300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状动脉粥样硬化性心脏病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ronary atherosclerotic heart diseas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简称冠心病，是由于冠状动脉粥样硬化使血管管腔狭窄或阻塞，导致心肌缺血、缺氧或坏死而引起的心脏病，是当今威胁人类健康的主要疾病之一。流行病学调查表明，在我国冠心病发病率和死亡率有逐年上升的趋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6" descr="F:\baidu download\01300000026741120572707219863.jpg"/>
          <p:cNvPicPr/>
          <p:nvPr/>
        </p:nvPicPr>
        <p:blipFill>
          <a:blip r:embed="rId1"/>
          <a:stretch/>
        </p:blipFill>
        <p:spPr>
          <a:xfrm>
            <a:off x="3132000" y="4076640"/>
            <a:ext cx="33339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随着康复医学的发展，近年来对冠心病的康复治疗积累了丰富的经验。世界卫生组织专家组认为，康复是所有心脏病病人治疗中的一个重要部分，其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目的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于改善功能储备，减轻或减少与活动有关的症状，减少不应有的残疾，使心脏病病人重新对社会有用并从中得到自我满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心病的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康复对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肌梗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稳定型心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隐匿型冠心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状动脉旁路移植术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皮冠状动脉腔内成形术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5" descr="http://photocdn.sohu.com/20110829/Img317663551.jpg"/>
          <p:cNvPicPr/>
          <p:nvPr/>
        </p:nvPicPr>
        <p:blipFill>
          <a:blip r:embed="rId1"/>
          <a:stretch/>
        </p:blipFill>
        <p:spPr>
          <a:xfrm>
            <a:off x="5364000" y="2349360"/>
            <a:ext cx="2857680" cy="27147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能力和耐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代谢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、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心病的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动态心电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超声心动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压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清酶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电运动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心病的康复治疗措施主要是通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运动疗法的有氧耐力训练和循环式力量训练（二）职业运动或作业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娱乐活动及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急性心肌梗死的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的七步康复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康复中的危险分组指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的三阶段康复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的康复计划一般分为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三个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住院期康复，包括心肌梗死急性期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普通病房两个阶段的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门诊或家庭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长期社区或家庭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5-26T06:57:29Z</dcterms:modified>
  <cp:revision>100</cp:revision>
  <dc:subject/>
  <dc:title>内科护理学</dc:title>
</cp:coreProperties>
</file>